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5A29-2C3D-47C2-9EFC-38541A8C5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EE72-3F21-4839-ABF5-C4C048F28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19CA-C038-4A32-B0A5-B5FBA51B0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E694-AE2C-4BEE-9ADA-DBD01C014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33FD-F076-47AB-97F1-2673ECCB6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02FE-37F8-4EA7-8932-2018527A9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A6C0-4B4C-4A7E-934E-24B5B517E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BA41-31E6-4526-B701-813A4E8F5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3CD8-7CDA-4776-B2F3-0433FFD72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484B-CFB6-4750-AE31-0B16F69A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626D-7631-47E3-9C29-258B413E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BC15-E0F8-4F73-9F9A-48847882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0611E-C352-42EB-973B-54C3A38CEDB4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28280"/>
            <a:ext cx="7772400" cy="27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600" spc="-1" strike="noStrike">
                <a:solidFill>
                  <a:srgbClr val="000000"/>
                </a:solidFill>
                <a:latin typeface="Calibri"/>
              </a:rPr>
              <a:t>Earthquake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Main Concep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ccur along faults, which are large cracks in the earth's crus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se are associated with the larger plate boundaries, along which the largest earthquakes usually occu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are caused by the sudden jerking movements of the fault, either laterally or vertically, and are almost impossible to predi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Measur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Richter scale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measures the magnitude of an earthquake using an instrument called a seismograph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Richter scale is logarithmic, meaning that an earthquake measuring 7 is 10 times more powerful than one measuring 6, and 100 times more powerful than one measuring 5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mercalli scale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measures the damage caused by an earthquake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t rates each quake from I to XII, depending on how much damage was done, and is dependent not only on the magnitude of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depth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of the earthquak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How They Happ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oint at which an earthquake actually begins, deep below the earth's surface is called the focu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the focus is deep then the effects of the earthquake may be less as the shockwaves have more rock to move through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viously this also depends on what type of rock it i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oint directly above the focus, on the earth's surface, is called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picentr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effects of the earthquake are usually worst here, and then radiate out from this spo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www.mona.uwi.edu/earthquake/images/epicentre.gif"/>
          <p:cNvPicPr/>
          <p:nvPr/>
        </p:nvPicPr>
        <p:blipFill>
          <a:blip r:embed="rId1"/>
          <a:stretch/>
        </p:blipFill>
        <p:spPr>
          <a:xfrm>
            <a:off x="343080" y="692280"/>
            <a:ext cx="84531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3:53:20Z</dcterms:created>
  <dc:creator>Dell_02</dc:creator>
  <dc:description/>
  <dc:language>en-US</dc:language>
  <cp:lastModifiedBy>Dell_02</cp:lastModifiedBy>
  <dcterms:modified xsi:type="dcterms:W3CDTF">2011-01-26T13:58:14Z</dcterms:modified>
  <cp:revision>1</cp:revision>
  <dc:subject/>
  <dc:title>Earthquakes</dc:title>
</cp:coreProperties>
</file>